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22A7D-8533-475C-BCD2-32ACD5C3B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3CC2-F0BD-449D-867A-78BE155EE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0792B-1E40-4FB6-B77E-65C1F77FF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53BEB-8F13-416C-87D7-CCEDAE408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53EC0-6023-40D3-BDFB-062CBA5FE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EEE99-55A6-4D44-955D-935B88884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80B09-A4AB-4ACC-A2AF-BCE603981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DC75E-245C-4376-B061-C164ED5B4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EB6C2-98F4-4745-B927-CD551EE0F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1C9F7-9924-4A20-B6AC-513DC81B8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E6911-F6CE-47E9-AF70-5FD4F1B97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5C5F5-6A90-4BEB-A1A6-DE6108977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3441E-7809-45B4-8D3B-4C6A1A199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53640E-9120-45D9-BCCD-A8FC75267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BED39-89DC-4552-BE95-26EC8F4ABB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443DFC-0B68-4B38-B666-40695E5F4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C5D11D-E51C-4A33-B719-22D9BB6E22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04978-08BC-4B2B-8E7C-DEF423A68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A362C-CDCE-4CDF-9E0B-EC80DC756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A2252-EF67-4281-9154-27770D8A3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B6F83-6353-42CC-B752-4A88AC179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D0AD-1808-474D-B341-018668658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038D-570E-4F8D-B388-E438973C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2A73-BA70-491E-B677-05FDBD7DE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EB8F-E27E-4E48-BE05-E6B89F77C5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801B-27D6-49B3-9757-4FD81E4EF2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Ecosystems</a:t>
            </a:r>
            <a:endParaRPr b="0" lang="en-US" sz="6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pecia, Vannisa</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bit, Medelette</a:t>
            </a:r>
            <a:endParaRPr b="0" lang="en-US" sz="3600" spc="-1" strike="noStrike">
              <a:solidFill>
                <a:srgbClr val="ffffff"/>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my students will gain from the assessment</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ents will gain an opportunity to help preserve and protect our ecosystem from harm</a:t>
            </a:r>
            <a:endParaRPr b="0" lang="en-US" sz="4000" spc="-1" strike="noStrike">
              <a:solidFill>
                <a:srgbClr val="ffffff"/>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y Goals</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rporate to the learners the importance of ecosystem in our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different ways on how to utilize in making project based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Have a Great Year!</a:t>
            </a:r>
            <a:endParaRPr b="0" lang="en-US" sz="4400" spc="-1" strike="noStrike">
              <a:solidFill>
                <a:srgbClr val="ffffff"/>
              </a:solidFill>
              <a:latin typeface="Arial"/>
            </a:endParaRPr>
          </a:p>
        </p:txBody>
      </p:sp>
      <p:pic>
        <p:nvPicPr>
          <p:cNvPr id="183" name="" descr=""/>
          <p:cNvPicPr/>
          <p:nvPr/>
        </p:nvPicPr>
        <p:blipFill>
          <a:blip r:embed="rId1"/>
          <a:stretch/>
        </p:blipFill>
        <p:spPr>
          <a:xfrm>
            <a:off x="609480" y="1523880"/>
            <a:ext cx="8229600" cy="460692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t Plan Summary:</a:t>
            </a:r>
            <a:endParaRPr b="0" lang="en-US" sz="4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Organisms occupying a habitat interact with each other. They also affect, affect and in turn, affected by the physical environment. Humans have always lived in communities all their lives. They affect not only individuals of their own kind and other living things in the community. </a:t>
            </a:r>
            <a:endParaRPr b="0" lang="en-US" sz="3200" spc="-1" strike="noStrike">
              <a:solidFill>
                <a:srgbClr val="ffffff"/>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ir behavior and activities also affect the physical environment. In this unit, we will study the characteristics of different ecosystems and the effects of people’s activity on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sential Question</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do we need to have a good management in our ecosystem? </a:t>
            </a:r>
            <a:endParaRPr b="0" lang="en-US" sz="4000" spc="-1" strike="noStrike">
              <a:solidFill>
                <a:srgbClr val="ffffff"/>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Times New Roman"/>
              </a:rPr>
              <a:t>Unit Question</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organisms inhabit these places (forests, lake, decaying log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you know of any place in which do organisms l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haracteristic of that place? </a:t>
            </a:r>
            <a:endParaRPr b="0" lang="en-US" sz="3200" spc="-1" strike="noStrike">
              <a:solidFill>
                <a:srgbClr val="ffffff"/>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Times New Roman"/>
              </a:rPr>
              <a:t>Content Questions</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has more species of plants and animals?</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requires human inputs?</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is a natural ecosystem? A human- made or managed ecosystem? </a:t>
            </a:r>
            <a:endParaRPr b="0" lang="en-US" sz="2800" spc="-1" strike="noStrike">
              <a:solidFill>
                <a:srgbClr val="ffffff"/>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enefits of Using Project Approaches, Ongoing Assessment, and CFQs in My Unit</a:t>
            </a:r>
            <a:endParaRPr b="0" lang="en-US" sz="32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understand the basic concepts in our ecosystem and it’s importance.</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35880" indent="-335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creative outputs that address the need of saving our ecosystem</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uging Student Needs Assessment</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I will use my Essential and Unit Questions to: </a:t>
            </a:r>
            <a:endParaRPr b="0" lang="en-US" sz="3200" spc="-1" strike="noStrike">
              <a:solidFill>
                <a:srgbClr val="ffffff"/>
              </a:solidFill>
              <a:latin typeface="Arial"/>
            </a:endParaRPr>
          </a:p>
          <a:p>
            <a:pPr marL="343080" indent="-34308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See the different effects of harming the nature.</a:t>
            </a:r>
            <a:endParaRPr b="0" lang="en-US" sz="3200" spc="-1" strike="noStrike">
              <a:solidFill>
                <a:srgbClr val="ffffff"/>
              </a:solidFill>
              <a:latin typeface="Arial"/>
            </a:endParaRPr>
          </a:p>
          <a:p>
            <a:pPr marL="343080" indent="-34308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Discover the different things they can do to prevent environmental problems in the society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To enhance the capability of the student to make any actions in this kind of situati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23:29Z</dcterms:created>
  <dc:creator>nave1386</dc:creator>
  <dc:description/>
  <dc:language>en-US</dc:language>
  <cp:lastModifiedBy>nave1386</cp:lastModifiedBy>
  <dcterms:modified xsi:type="dcterms:W3CDTF">2010-09-03T19:54:50Z</dcterms:modified>
  <cp:revision>4</cp:revision>
  <dc:subject/>
  <dc:title>Slide 1</dc:title>
</cp:coreProperties>
</file>